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C6E-8216-49C7-9522-45E9222F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F97-C521-4833-A35F-69573F9B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28C-A4C4-4030-8C78-A107DBB8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50B1-081A-4C25-A310-BAC166A9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10662-D0BA-4C56-B68E-AC60E829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CD578-0280-421C-AB42-CEAE5531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7CC3D-6C59-4E60-8C4B-3A3C5352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1CCE5-1E09-481A-8F4E-0C0BA2E8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47D0E-0D37-45DA-A798-711561CD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54A26-5AE1-41F0-9601-22E3B1D3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B8162-85E6-43F9-B102-083572A9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460-5EF8-4E71-8255-FDC43F80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2EEE0-D64B-4F64-BB17-EA82A0D1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F9117-51E7-46E7-9BBB-1CFCE158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426A1-B1C9-4999-9FA4-4F3112A5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49FC3-458E-4C15-8DE4-DDB94109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82C1C-20F1-4A43-BE21-32832060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BA7-C6B3-42FA-B495-D3CFDC5B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7AE-3180-45D3-AFC2-23D900F1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94B7-7626-4601-8F37-9A8A47A5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6F67-DDAE-4893-B0A2-9A81BF9C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DEAF-14D3-4DEB-B64E-B3C84F0C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AA9-E5DC-4249-8274-7CECCCF9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650-CB46-4FD4-A797-50C899B8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F147-23A8-4C36-AF1E-4FED411246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3A07-0CED-4AC5-A2F6-098FA4DBCF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ience Ter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983040"/>
            <a:ext cx="640080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c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solv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ro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oval of surface material from the earths crust and the moving of the materials wind action, weather, river and stream processes, sea waves, and glaciers cause ero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ow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ypothe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vestigat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ferenc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dependent variables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sul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exhausti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tmosph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yer of air that surrounds ear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37160" y="1395360"/>
          <a:ext cx="199800" cy="2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7160" y="1395360"/>
                    <a:ext cx="19980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terial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thing that has mass and takes up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ture of Sc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nrenew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source that cannot be readily replaced once it is 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ysical Sci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291960"/>
            <a:ext cx="807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cedure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hysical propert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aracteristics of a substance that can be observed or measured without changing the sub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qualitative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pac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quantitative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new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source that is replaced as it is 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cientific observ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cal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i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s that work together to perform a fun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e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x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bin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ather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0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Se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Se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ve Fo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nclusio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pendent variabl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tructive Fo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position of Sedi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cess of dropping, or depositing, sediment in a new 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5:04:00Z</dcterms:created>
  <dc:creator>Martin Lawrenced</dc:creator>
  <dc:description/>
  <dc:language>en-US</dc:language>
  <cp:lastModifiedBy>Rusk25 Elementary School</cp:lastModifiedBy>
  <dcterms:modified xsi:type="dcterms:W3CDTF">2009-04-27T19:03:05Z</dcterms:modified>
  <cp:revision>13</cp:revision>
  <dc:subject/>
  <dc:title>Science Terms</dc:title>
</cp:coreProperties>
</file>